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move the slid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2AC8C-08DC-46D0-B99C-77272F3764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E852E-3BA6-4D20-9006-40069C263F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79B94-2983-4BA8-BAB6-99BB62FB08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74CFA-D37C-492C-9CA4-F42383F5CD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8B449-0A86-4B35-892E-4F9067686A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BDE56-33F9-41EB-A0CE-62F8BFE739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" name="Line 8"/>
          <p:cNvSpPr/>
          <p:nvPr/>
        </p:nvSpPr>
        <p:spPr>
          <a:xfrm flipH="1">
            <a:off x="304560" y="609588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9"/>
          <p:cNvSpPr/>
          <p:nvPr/>
        </p:nvSpPr>
        <p:spPr>
          <a:xfrm flipH="1">
            <a:off x="304560" y="68580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" name="Picture 7" descr=""/>
          <p:cNvPicPr/>
          <p:nvPr/>
        </p:nvPicPr>
        <p:blipFill>
          <a:blip r:embed="rId2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5"/>
          <p:cNvSpPr/>
          <p:nvPr/>
        </p:nvSpPr>
        <p:spPr>
          <a:xfrm flipH="1">
            <a:off x="304560" y="2971800"/>
            <a:ext cx="80010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1"/>
          </p:nvPr>
        </p:nvSpPr>
        <p:spPr>
          <a:xfrm>
            <a:off x="7642080" y="299520"/>
            <a:ext cx="7732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3079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797b"/>
                </a:solidFill>
                <a:latin typeface="Times New Roman"/>
              </a:rPr>
              <a:t>Tee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2"/>
          <p:cNvSpPr/>
          <p:nvPr/>
        </p:nvSpPr>
        <p:spPr>
          <a:xfrm>
            <a:off x="7678440" y="299880"/>
            <a:ext cx="700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0797b"/>
                </a:solidFill>
                <a:latin typeface="Verdana"/>
              </a:rPr>
              <a:t>Teens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0797b"/>
                </a:solidFill>
                <a:latin typeface="Verdana"/>
              </a:rPr>
              <a:t>lesson twelve</a:t>
            </a:r>
            <a:endParaRPr b="0" lang="en-US" sz="4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2057400" y="3124080"/>
            <a:ext cx="64008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aving and investing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esentation slide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Picture 8" descr="Picture 1"/>
          <p:cNvPicPr/>
          <p:nvPr/>
        </p:nvPicPr>
        <p:blipFill>
          <a:blip r:embed="rId1"/>
          <a:stretch/>
        </p:blipFill>
        <p:spPr>
          <a:xfrm>
            <a:off x="7662960" y="3530520"/>
            <a:ext cx="642960" cy="6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bond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what they ar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 bond is an “IOU,” certifying that you loaned money to a government or corporation and outlining the terms of repaymen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how they work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uyer may purchase bond at a discount. The bond has a fixed interest rate for a fixed period of time. When the time is up, the bond is said to have “matured” and the buyer may redeem the bond for the full face valu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typ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orporat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old by private companies to raise money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f company goes bankrupt, bondholders have first claim to the assets, before stockholder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Municipa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ssued by any non-federal governmen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terest paid comes from taxes or from revenues from special projects. Earned interest is exempt from federal income tax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ederal governmen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safest investment you can make. Even if U.S. government goes bankrupt, it is obligated to repay bond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7008480" y="6323400"/>
            <a:ext cx="1683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2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2-I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mutual fund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what they ar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fessionally managed portfolios made up of stocks, bonds, and other investment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how they work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s buy shares, and fund uses money to purchase stocks, bonds, and other investment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fits returned to shareholders monthly, quarterly, or semi-annually in the form of dividend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advantag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llows small investors to take advantage of professional account management and diversification normally only available to large investor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types of mutual fund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Balanced Fund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cludes a variety of stocks and bond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Global Bond Fund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has corporate bonds of companies from around the worl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Global Stock Fund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has stocks from companies in many parts of the worl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Growth Fund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mphasizes companies that are expected to increase in value; also has higher risk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Income Fund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eatures stocks and bonds with high dividends and interes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Industry Fund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vests in stocks of companies in a single industry (such as technology, health care, banking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Municipal Bond Fund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eatures debt instruments of state and local government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Regional Stock Fund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volves stocks of companies from one geographic region of the world (such as Asia or Latin America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Text Box 4"/>
          <p:cNvSpPr/>
          <p:nvPr/>
        </p:nvSpPr>
        <p:spPr>
          <a:xfrm>
            <a:off x="7012440" y="6323400"/>
            <a:ext cx="1677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2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2-J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stock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what they ar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ock represents ownership of a corporation. Stockholders own a share of the company and are entitled to a share of the profits as well as a vote in how the company is run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how earnings are mad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any profits may be divided among shareholders in the form of dividends. Dividends are usually paid quarterly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arger profits can be made through an increase in the value of the stock on the open marke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advantag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f the market value goes up, the gain can be considerabl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ney is easily accessibl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disadvantag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f market value goes down, the loss can be considerabl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lecting and managing stock often requires study and the help of a good brokerage firm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Text Box 4"/>
          <p:cNvSpPr/>
          <p:nvPr/>
        </p:nvSpPr>
        <p:spPr>
          <a:xfrm>
            <a:off x="6994800" y="6323400"/>
            <a:ext cx="1715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2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2-K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real estat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ways to inves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uy a house, live in it, and sell it later at a profi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uy income property (such as an apartment house or a commercial building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nd rent i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uy land and hold it until it rises in valu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dvantag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xcellent protection against inflation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disadvantag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an be difficult to convert into cash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 specialized type of investment requiring study and knowledge of busines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apital gains: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rofits from the sale of a capital asset such as stocks, bonds, or real estate. These profits are tax-deferred; you do not have to pay the tax on these profits until the asset is sold. Long-term capital gains occur on investments held more than 12 months. Short-term capital gains occur on investments held les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an 12 month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Text Box 4"/>
          <p:cNvSpPr/>
          <p:nvPr/>
        </p:nvSpPr>
        <p:spPr>
          <a:xfrm>
            <a:off x="7012080" y="6323400"/>
            <a:ext cx="1703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2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2-L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retirement plan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what they are and how they work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ans that help individuals set aside money to be used after they retir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ederal income tax not immediately due on money put into a retirement account, or on the interest it make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come tax paid when money is withdrawn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nalty charges apply if money is withdrawn before retirement age, except under certain circumstance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come after retirement is usually lower, so tax rate is lower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typ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Individual Retirement Account (IRA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llows a person to contribute up to $6,000 of pre-tax earnings per year. Contributions can be made in installments or in a lump sum. Those over 50 can contribute up to $7,000 pre-tax annually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Roth IRA (also called the IRA Plus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ile the up to $6,000 annual contribution to this plan is not tax-deductible, the earnings on the account are tax-free after five years. The funds from the Roth IRA may be withdrawn after age 59, if the account owner is disabled, for educational expenses, or for the purchase of a first hom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401(k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llows a person to contribute to a savings plan from his or her pre-tax earnings, reducing the amount of tax that must be paid. Employer matches contributions up to a certain level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Keogh Pla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llows a self-employed person to set aside up to 25% of incom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but not more than $56,000 per year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6953400" y="6323400"/>
            <a:ext cx="1747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2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2-M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IRAs – an example of a return on investmen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ontributions made only between ages of 22–30 (9 years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$2,000 contributed each yea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otal investment of $18,000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t an interest rate of 9%, by age 65 will have $579,468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ontributions made only between ages of 31–65 (35 years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$2,000 made contributed each yea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otal investment of $70,000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t an interest rate of 9%, by age 65 will have $470,249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Text Box 4"/>
          <p:cNvSpPr/>
          <p:nvPr/>
        </p:nvSpPr>
        <p:spPr>
          <a:xfrm>
            <a:off x="6968160" y="6323400"/>
            <a:ext cx="1732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2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2-N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omparing savings and investment plan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38" name="Text Box 4"/>
          <p:cNvSpPr/>
          <p:nvPr/>
        </p:nvSpPr>
        <p:spPr>
          <a:xfrm>
            <a:off x="6968880" y="6323400"/>
            <a:ext cx="1730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2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2-O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304920" y="914400"/>
          <a:ext cx="8381880" cy="5022720"/>
        </p:xfrm>
        <a:graphic>
          <a:graphicData uri="http://schemas.openxmlformats.org/drawingml/2006/table">
            <a:tbl>
              <a:tblPr/>
              <a:tblGrid>
                <a:gridCol w="1396800"/>
                <a:gridCol w="1397160"/>
                <a:gridCol w="1396800"/>
                <a:gridCol w="1295640"/>
                <a:gridCol w="1498320"/>
                <a:gridCol w="1397160"/>
              </a:tblGrid>
              <a:tr h="425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nstrument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aturity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isk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yield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inimum balanc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axable?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461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avings Account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mediat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ne if insured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ow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ri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ertificate of Deposit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0 days or mor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ne if insured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rat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ri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0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ond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rporat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–30 year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om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rat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,00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unicipal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–20 year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om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rat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5,00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federal,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ome stat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ock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mediat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ow to high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ow to high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ri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760">
                <a:tc gridSpan="6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.S. Treasury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9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1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ill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 year or les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n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rat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0,00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ederal only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2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–10 year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n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rat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,00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ederal only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18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ond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–30 year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n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rat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,00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ederal only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utual Fund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ri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ow to high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rat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ri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sually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tirement Fund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hen buyer i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 years old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ow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rat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ri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t maturity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avoiding investment fraud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1532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Each year, billions of dollars are lost to fraudulent investment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ome of the most common include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llegal pyramids, insider trading, and unlicensed investment broker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High-risk “penny” stocks and fraudulent securit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audulent franchises and business opportunit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net services, 900-numbers, and high-tech investments promising high profits an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inimal risk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pportunities to invest in movie deals and other entertainment ventures with promises of guaranteed profits and failure to disclose risk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To protect yourself from becoming a victim of investment fraud, take the following actions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ecome informed about investments and industries before investi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alk with others who have made similar investm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btain information from state and federal regulatory agenc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ever buy over the phone without first investigating the situa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void investment opportunities promising large returns in a short amount of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ime that seem “too good to be true”—they probably ar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For additional information, contact the following websites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www.ftc.gov; www.fraud.org; www.sec.gov; www.nasaa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6996240" y="6323400"/>
            <a:ext cx="1710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2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2-P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pay yourself first (a little can add up)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4" name="Text Box 9"/>
          <p:cNvSpPr/>
          <p:nvPr/>
        </p:nvSpPr>
        <p:spPr>
          <a:xfrm>
            <a:off x="6994800" y="6323400"/>
            <a:ext cx="1718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2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2-A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6019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A little can add up!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ave this each week…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t % interest…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10 years you’ll have…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$7.00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5%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$4,743.04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14.00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5%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$9,486.08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21.00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5%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$14,229.11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28.00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5%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$18,972.15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5.00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5%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$23,715.1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can buy… two fast food meals or save $7.00 this week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can buy… two small cheese pizzas or one large pepperoni pizza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delivered or one new CD or save $14.00 this week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What can you give up to save for your financial goals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types of savings accounts 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passbook accou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positor receives a booklet in which deposits, withdrawals, and interest are recorde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verage interest rate is lower at banks and savings and loans than at credit union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unds are easily accessibl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tatement accou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asically the same as a passbook account, except depositor receives monthly statement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 instead of a passbook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ccounts are usually accessible through 24-hour automated teller machines (ATMs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 rates are the same as passbook accoun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unds are easily accessibl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interest-earning checking accou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bines benefits of checking and saving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positor earns interest on any unused money in his/her accoun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6995520" y="6323400"/>
            <a:ext cx="1715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2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2-B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money-market deposit account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what they are and how they work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hecking/savings accoun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 rate paid built on a complex structure that varies with size of balance and curren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level of market interest rate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an access your money from an ATM, a teller, or by writing up to three checks a month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benefi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mmediate access to your money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trade-off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Usually requires a minimum balance of $5,000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imited number of checks can be written each month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verage yield (rate of return) higher than regular savings account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6985080" y="6323400"/>
            <a:ext cx="1712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2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2-C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ertificates of deposit (CDs)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what they are and how they work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Bank pays a fixed amount of interest for a fixed amount of money during a fixed amount of time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benefits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No risk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imple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No fees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Offers higher interest rates than savings accounts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rade-offs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Restricted access to your money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ithdrawal penalty if cashed before expiration date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   (penalty might be higher than the interest earned)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ypes of certificates of deposit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1. Rising-rate CDs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ith higher rates at various intervals, such as every six months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2. Stock-indexed CDs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ith earnings based on the stock market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3. Callable CDs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ith higher rates and long-term maturities, as high as 10–15 years. However, the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   bank may “call” the account after a stipulated period, such as one or two years, if interest rates drop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4. Global CDs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ombine higher interest with a hedge on future changes in the dollar compared to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   other currencies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5. Promotional CDs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attempt to attract savers with gifts or special rates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6990120" y="6323400"/>
            <a:ext cx="172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2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2-D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how simple and compound interest are calculated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30592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imple interest calcula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Dollar Amount x Interest rate x Length of Time (in years) = Amount Earne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f you had $100 in a savings account that paid 6% simple interest, during the first year you would earn $6 in interes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$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00 x 0.06 x 1 = $6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t the end of two years you would have earned $12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account would continue to grow at a rate of $6 per year, despite the accumulated interes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compound interest calcula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 is paid on original amount of deposit, plus any interest earne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(Original $ Amount + Earned Interest) x Interest Rate x Length of Time = Amount Earne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f you had $100 in a savings account that paid 6% interest compounded annually, the first year you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would earn $6.00 in interes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$100 x 0.06 x 1 = $6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$100 + $6 = $106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ith compound interest, the second year you would earn $6.36 in interes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calculation the second year would look like this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$106 x 0.06 x 1 = $6.36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$106 + 6.36 = $112.36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Text Box 8"/>
          <p:cNvSpPr/>
          <p:nvPr/>
        </p:nvSpPr>
        <p:spPr>
          <a:xfrm>
            <a:off x="6992280" y="6323400"/>
            <a:ext cx="1703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2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2-E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hoosing a savings accoun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actors that determine the dollar yield on an account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Interest rate (also called rate of return, or annual yield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ll money earned comes from this factor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the following factors reduce money earned and can even turn it into a loss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ees, charges, and penalti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ually based on minimum balance requirements, or transaction fe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Balance requiremen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ome accounts require a certain balance before paying any interes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n money-market accounts, most banks will pay different interest rates for differ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size balances. (Higher balance earns a higher rate.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Balance calculation metho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ost calculate daily. Some use average of all daily balanc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Text Box 5"/>
          <p:cNvSpPr/>
          <p:nvPr/>
        </p:nvSpPr>
        <p:spPr>
          <a:xfrm>
            <a:off x="7010280" y="6323400"/>
            <a:ext cx="1701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2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2-F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Truth in Savings Ac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The Truth in Savings Act (Federal Reserve Regulation DD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equires financial institutions to disclose the following information on savings account plans they offer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ees on deposit accoun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interest rat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ther terms and conditio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annual percent yield (APY), which is the percentage rate expressing the total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amount of interest that would be received on a $100 deposit based on the annual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rate and frequency of compounding for a 365-day period. Truth in Saving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defines the year as 365 days rather than 360, 366, or some other number. Thi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law eliminates confusion caused by the more than eight million variations of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interest calculation methods previously used by financial institution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6974280" y="6323400"/>
            <a:ext cx="1721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2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2-G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The Rule of 72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6970320" y="6323400"/>
            <a:ext cx="1726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2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2-H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How many years will it take to double my money?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72 DIVIDED B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=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YEARS TO DOUBLE A SUM OF MONE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TEREST RAT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(e.g. for 6%, use 6)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t what interest rate will my money double in a set number of years?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72 DIVIDED B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=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INTEREST RATE REQUIRE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YEARS TO DOUBL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VESTMEN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Line 11"/>
          <p:cNvSpPr/>
          <p:nvPr/>
        </p:nvSpPr>
        <p:spPr>
          <a:xfrm>
            <a:off x="838080" y="3429000"/>
            <a:ext cx="1600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Line 12"/>
          <p:cNvSpPr/>
          <p:nvPr/>
        </p:nvSpPr>
        <p:spPr>
          <a:xfrm>
            <a:off x="762120" y="1905120"/>
            <a:ext cx="1600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6T15:31:30Z</dcterms:created>
  <dc:creator>Derek Oyen</dc:creator>
  <dc:description/>
  <dc:language>en-US</dc:language>
  <cp:lastModifiedBy>Anne Braggins</cp:lastModifiedBy>
  <dcterms:modified xsi:type="dcterms:W3CDTF">2019-10-07T19:10:33Z</dcterms:modified>
  <cp:revision>51</cp:revision>
  <dc:subject/>
  <dc:title>lesson three</dc:title>
</cp:coreProperties>
</file>