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1621-18F5-46B1-98EB-53E5E3C5E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DB41-E05C-4950-92B1-B528F761F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EA99-CB10-4489-9B47-8C8093ADC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re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528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60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,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’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22:38:05Z</dcterms:modified>
  <cp:revision>32</cp:revision>
  <dc:subject/>
  <dc:title>lesson three</dc:title>
</cp:coreProperties>
</file>