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3D4C-34AE-4DC8-8F99-628FB9E8A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2E9B-8E0D-443D-8F9C-FCD9F1DF2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F4B0-8F27-408F-BDB2-F0358677A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8249-F127-4DC8-A429-AB13982CD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0CF1-E328-4F80-A472-955106FA0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D863-9ABE-46A3-AF5D-C524B30B6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eight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0646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768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 1/2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02972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03224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 Some of the most comm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061400" y="6323400"/>
            <a:ext cx="16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581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 … at % interest … in 10 years you’ll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.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7544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4016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6576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28:34Z</dcterms:modified>
  <cp:revision>54</cp:revision>
  <dc:subject/>
  <dc:title>lesson three</dc:title>
</cp:coreProperties>
</file>